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0789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0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514512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25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AE0ED1A-89AA-4B27-86F1-08ADB08AF98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9FD4E4E-DC7B-438C-AE40-33C7432440F3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434C775-3478-4398-8291-39AD9AF1EF3B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8CB5151-BF60-41D4-9D99-8B77460ABEBF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E2D0CF8-62D6-42B3-986B-E580C76A528A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145120" y="0"/>
            <a:ext cx="3935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0"/>
            <a:ext cx="3935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832120" y="51912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1CE0-78CB-4764-B6F8-B806619E0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CD65-2883-4F19-AF4E-23776BC25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B9C9-8ED1-432F-BB64-73F6F96B7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41EC-8A3D-4C85-B680-4D2940897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A9894-AB55-4159-8A4E-351031CBDB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2478F-B2D5-4E94-A853-5B5E809EB1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A057A-1ABE-4BC0-BBB0-A17BCFD72F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3C80D-B892-40FF-9D41-81578DB69D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A5C17-D07A-470B-B20D-9006D2D0A6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DC2EC-EA3A-4097-A8B0-81A8571598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4AD00-1D6A-464C-8802-CBC2D4BBE3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3062-8444-4A8F-88DE-486CA8E79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71D20-BDA0-4F22-A35B-D69ABB1A74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3CB13-3C26-4FE7-929E-BB567B2875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246DC-455D-4123-9959-C5C8C79A6A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EDF1B-3531-4C88-BCA4-6326ED8B0B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CAAE3-AAA2-4B56-8970-0DF90302DC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BA7D7-A974-4A5C-80CA-D6BB4D7BB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19DC-F233-4DE2-A151-06746093F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1122-C2F2-474B-8B3B-7B59FB4D5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B16C-9C06-4AF9-8905-897C301F1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9707-FEFD-4441-B329-D409AC118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9B05-85B1-4F1B-812C-F4974C443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F1EF-312F-4EC0-9C4D-54D7EA21E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110F8BBE-41BB-4CF9-949C-95C9F12D9D6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B061AF40-809E-4AC8-94C7-7CFC74D01AF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al System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7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9A104D34-54CE-4109-A9BC-7B1515C1E01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of equit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made by Courts of Chancery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riginally on fairn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to counter rigid common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later merged, but bodies of law remained separ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CB071622-8599-415C-A323-DEAEF93C91E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t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 created by legislative bodi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liamentary supremacy” (i.e., legislation overrides common law and law of equity) 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summarize or modify common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government regulation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A9B7AAE-7CF5-455F-900F-178A12E6F81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FCA72F6-018A-49D2-A53E-6D22C6CE3AA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8678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ada creat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itish North America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1867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ada inherited certain conventions or traditions from Britai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s established in the Magna Carta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liamentary supremacy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 in Can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3FEBE65-4938-4C56-8FB7-E833C0F9854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A Act now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867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s 91 and 92 divide powers between federal and provincial governmen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inciple of paramountcy applies in cases of conflict between federal and provincial law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 in Canad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C97FAD97-2BFD-4486-B1B9-B7CCD88F43C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198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ed ties with British Governmen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d government enactments having constitutional statu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ed amending formula for constitutional chang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1982)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6B7370A-2A66-49B4-A42F-9F76D69C70F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s individuals from infringement on their rights by governments or their agen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limitations on Charter rights: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1 – reasonable exceptions to Charter rights and freedoms allowed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33 – legislatures can pass acts that infringe on rights “notwithstanding” the Chart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32 – Charter applies only to govern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B7F8669-D30B-4097-BB3D-7C8AD0D35AB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urts: Court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41DCD2E6-8D9D-41E5-82B8-7E7976CD0AC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1782720"/>
            <a:ext cx="64008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 of Civil 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ivil trial - action for compens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dings -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e chart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 of docum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 of witness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 into cour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on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action lawsui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57800" y="2666880"/>
          <a:ext cx="3048120" cy="3048120"/>
        </p:xfrm>
        <a:graphic>
          <a:graphicData uri="http://schemas.openxmlformats.org/drawingml/2006/table">
            <a:tbl>
              <a:tblPr/>
              <a:tblGrid>
                <a:gridCol w="1341360"/>
                <a:gridCol w="170676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tiff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endant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 of Summons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earance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ment of Claim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ment of Defence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erclaim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2A7E533-313C-45EB-94FB-B28E91FB48F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iff presents cas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den of proof rests with plaintiff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of probabiliti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examination of witne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examination by defense lawy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1E032F9-58A6-492E-8944-68C20FD7645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Define what law 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Identify the sources of Canadian laws and distinguish their componen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Describe the structure of the courts in Canada and illustrate the litigation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Outline the processes of trial and judgement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CA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7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923E943-AB2D-486B-87F9-9A848A5DAA9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ia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ndant presents cas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ings forward witnesses and evid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intiff’s lawyer gets to cross-examin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ies to put enough doubt into the plaintiff’s case so plaintiff cannot prove his/her cas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0FBF1944-1331-4912-83DB-51E3FEEBAD3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ial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Judge determines the law and instructs the jur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Jury decides on the fac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If judge alone, he/she determines both facts and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A8190DCA-7560-4D2C-A907-7C0FE2726D1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ages (monetary compensation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– non-quantifiable lo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– quantifiable lo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itive – to punish the wrongdo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9051840" y="476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5080515C-F89D-40FD-8326-E60F7ACB0A9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where damages are not appropriat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unction – stop ord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performance – fulfill the terms of an agree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ing – pay over profi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1373C10-7AD4-450B-BDD2-F4715122275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iff must enforce judgmen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-trial hearing to identify asse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izure of propert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ishment of w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mpt of court (related to order of specific conduct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AD4BC89A-3555-4A9E-90B1-6D1B1E319B7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for resolving disputes outside of the cour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thod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85E9E60-B7F6-4093-94FA-141DC12E08C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20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es discuss the problem with each other in order to find a solu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requires cooperation and compromi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conducted through representativ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ay enhance relationship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ment may not be legally bind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48DAA42-561F-41A7-9049-B7CFBC67612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 outsider helps parties settle the dispu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facilitated by mediator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common grou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s concess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 does not make decis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required before court will hear ca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 may affirm mediated resolu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5423C99C-6FAC-49E5-A208-E2177E5F645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es agree on an independent third party (or panel of three) to make a decision that will be bind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required in contract; mandated in collective bargain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tors are usually specialists in the matter under dispu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cannot be appealed although procedure may be reviewed by the cou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07984A5-67DD-42FF-9BEF-CA42CEC4A7C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es maintain control of the solu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utants determine and schedule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costs associated with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ers remain priv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rves good wil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chieve a win-win resolu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081B7745-3E7D-4B5F-8358-A8B6E2511D1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lain the function and use of alternative methods for resolving disput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ine administrative law and explain when and how it is used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scribe the aspects of criminal law that should be of concern to a business pers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4EB30FA-ED01-4811-8C8A-8E97B6E6964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have more power to extract inform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do not follow preced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ments may not be enforceabl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ppropriate when power imbalance exis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ublic record of dispute or decis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9313823-1CE2-4E38-9FA3-B2007DDFB20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bodies make decisions with respect to statutes or regulation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decisions must be within jurisdiction and comply with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867)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principles of procedural fairn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 may review decision process and decision to determine if appropri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ive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C6133824-EF34-45BA-8230-E6035884366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ivitive clauses may protect tribunal decisions from judicial revie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dvantages of tribunals (compared to courts):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volve experts in field under dispu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er, more cost-effective decision-making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ive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2285924B-5C74-4402-B906-59AA10E3A4A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vil law – individual sues another for compensation (or other remedy)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inal law – state prosecutes accused to punish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e federal government has the power to make criminal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ncial governments have the power to create and enforce statutes (similar to criminal law in terms of penalties)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418E12A7-FBBB-4DB8-9F2F-C96122FC1E9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den of proof on prosecuto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prove beyond a reasonable doub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how wrongful conduct took pla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how intention to commit the ac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liability offenc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only need to show offence took pla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defence is due dilig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  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B5609B0F-21E6-4D91-920C-1D820431957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to arrest held by police and private citizen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icial officials issue search warrants, arrest warrants, and summons to appea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 of crim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conviction - minor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table offence - more serious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3C786FF-448C-400F-BA8A-7C0A6A464BF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icial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– exchange of information and negoti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table offence – more involved and length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 bargaining – pleading to lesser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matter proceeds to trial: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ecutor presents witnesses and evidenc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se then presents witnesses and evidenc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made by judge or ju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 – fine/imprison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4372B647-714A-40DA-93E1-4465E751E80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is the body of rules that can be enforced by the courts or by other government agenci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does not define ethical behaviou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928835D-E3F5-4717-B34A-4135B49CB00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ve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s determining behaviou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cedural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w the legal process work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5800" y="457200"/>
            <a:ext cx="7772400" cy="144792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D70AF69-EA6F-4539-A684-0E8C3CD2802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8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48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s our relationship with govern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8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or Civil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48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s personal, social, and business relationship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C0E6463-A82C-4B95-B090-B511A4B0A8E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fied body of rul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ted with the Romans; later modified by Napole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most countri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bec’s legal system is based on the French Civil Cod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Code Leg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1F718BEF-63DC-4E97-80A6-5716727E489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106992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Leg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 used in Great Britain and the Commonwealth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adopted by Canada’s English-speaking provinces and the territories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ge-made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in the cour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precedent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re decis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DD59281-C48F-4443-9AEA-5B94A571C5D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precedent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re decis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to follow precedent case if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made by higher cou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ame jurisdic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similar fac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distinguish cases on the fac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1B03A0E-1763-4989-9BA7-5858B384176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User</cp:lastModifiedBy>
  <dcterms:modified xsi:type="dcterms:W3CDTF">2012-04-24T15:58:43Z</dcterms:modified>
  <cp:revision>191</cp:revision>
  <dc:subject/>
  <dc:title>Chapter One</dc:title>
</cp:coreProperties>
</file>